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9435-0CA0-48CF-974E-4100036C7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2A08-11D1-435A-8478-0B851F06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35A4-BC5E-4B82-9B03-A906831B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43B4-2A8C-4539-8631-17C99E40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09C7-F408-4BB6-87AA-7D2AFAE3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0F32-5AFD-4E0A-A4F3-C125B616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FE75-4F1C-4D22-BFD5-E5DE4088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A876-8972-4883-A393-597E877A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F12A-B121-475E-8E28-D531C21F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B68B-F58C-466A-89C7-CACD7F66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BEC9-698C-4440-B89E-1FCD58C6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9375-519C-42A0-846C-3F447219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4920-D93C-4222-85D4-D26FD671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E77F-2225-42DD-A543-15215939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0AB1-200D-4819-BD2E-66E5C3D9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1EB5-4573-4B98-8D21-AA8CF0A5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724D-1DD1-42AF-9C83-7C555EF5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FC76-60AA-42BD-94A2-2F252CB7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393E-A97D-45CE-83CB-E103EE68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FC11-386A-484D-88DB-D0F57644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B409-F41A-4135-AE2A-9A0CBBD1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5938-DEB7-4DBE-B9CC-73A2DF2D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3A1E-2451-4C33-AFFD-3DDFED69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8EEE-1529-443A-93F9-E75CEE79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67F8-8243-4C68-BF15-8265D3BA6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5B7A-283B-4DB8-8A94-AB0471381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33cccc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cision Models – J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6141960"/>
            <a:ext cx="35049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m Fergu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tt Nicho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676520" y="2895480"/>
          <a:ext cx="5638680" cy="27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895480"/>
                    <a:ext cx="5638680" cy="27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600200" y="1600200"/>
            <a:ext cx="601992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eenPoint Brew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ecasting and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ecast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71600" y="1020600"/>
            <a:ext cx="6477120" cy="4160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0880" y="5257800"/>
            <a:ext cx="8763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work required to refine trend and sea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458200" y="632448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al Order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2193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cision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quantity for each 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 the combination of individual grains to be ord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e order quantity for 6 major beer g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freight delivery unit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632448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al Order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2193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ust input MIN and MAX months grain usage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needs to account for 1 year perish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quantity greater than MIN grain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quantity less than MAX grain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grain order must be full bags and &gt;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must be less than physical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ins from Wisconsin (60%) and RI (40%) space based on past grain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534520" y="6324480"/>
            <a:ext cx="53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al Order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2193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lution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determines the min and max grain usage based on parameters entered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 / Month / Min / 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s retrieve usage (forecast) and ending inventory data from consolidated spread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variables are the number of full bags to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e the number of pallets in order to take advantage of quantity freight dis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- Proving the optimization of order quantity using 2004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534520" y="6324480"/>
            <a:ext cx="53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al Order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609480"/>
            <a:ext cx="3276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NUARY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534520" y="6324480"/>
            <a:ext cx="53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6160" y="1066680"/>
            <a:ext cx="8845560" cy="494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al Order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609480"/>
            <a:ext cx="3276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Y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534520" y="6324480"/>
            <a:ext cx="53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6680" y="1066680"/>
            <a:ext cx="8825040" cy="49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 / 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2193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nter’s Model to forecast grain us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time and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emergency order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ccurate input for or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olver model to optimize ordering qua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n to minimize freight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ight costs for year will be further reduced when seasonal grain is added to the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 disruption to operations due to less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6324480"/>
            <a:ext cx="53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2193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to review models with Kelly Tay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problems and how the models will help solv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more detail on seasonality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ffect on monthly usage in opening year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 of opening of Empire State Heartland sales location in Nov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ize mode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spreadsheet look and feel needs to be agreed upon with Ke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ity of models needs to match Kelly’s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534520" y="6324480"/>
            <a:ext cx="53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219320"/>
            <a:ext cx="8153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astin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 Orderin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 /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8680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eenPoint Brewery -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219320"/>
            <a:ext cx="8153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brewer for Heartland Brew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 - Brooklyn, 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wmaster – Kelly Tay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production – 10,000 Ke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ws at any given 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tandard B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easonal B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68680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eenPoint Brewery -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219320"/>
            <a:ext cx="8153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different grains for standard b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from Wisconsin (for Si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from Wisconsin (50 pound b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from Rhode Island (55 pound b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additional grains used for sea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in unit costs do NOT vary by order qua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ight delivery unit costs DO vary based on order qua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lly maintains yearly spreadsheet with monthly data she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68680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2193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bility to forecast future grai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ools for fore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production planning using inaccurate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costly emergency orders for stock 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optimal ordering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t orders – forgoes freight quantity discou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frequent disruption to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68680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ecast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2193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ast future individual grain demand for           the 6 standard b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is to minimize time an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onal beer grain demand requires clos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is sea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grain requirements vary wid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in delivery freight costs vary by order qua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68680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ecast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2193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lution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ree Exponential Smoothing forecasting models using historical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lidate historical data into single spreadsheet     (2003 – 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to integrate 2005 and 2006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using Simple Smoothing, Holt, Win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moothing &amp; Hol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ccurate, create shortfall/excess grain on h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68680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ecast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2193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lution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ter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s future usage based on historic seas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supplemented by safety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work required to refine trend and seas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ast models - compariso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for Briess grain (major ingredi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 data for Briess grain usage for 6 major b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68680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ecast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447920" y="1074600"/>
          <a:ext cx="6400800" cy="507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74600"/>
                    <a:ext cx="640080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868680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7:28:49Z</dcterms:created>
  <dc:creator>Jim Ferguson</dc:creator>
  <dc:description/>
  <dc:language>en-US</dc:language>
  <cp:lastModifiedBy>Jim Ferguson</cp:lastModifiedBy>
  <dcterms:modified xsi:type="dcterms:W3CDTF">2005-08-12T15:25:56Z</dcterms:modified>
  <cp:revision>167</cp:revision>
  <dc:subject/>
  <dc:title>Online Music Industry: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24572757</vt:r8>
  </property>
  <property fmtid="{D5CDD505-2E9C-101B-9397-08002B2CF9AE}" pid="3" name="_AuthorEmail">
    <vt:lpwstr>fergusoj@toysrus.com</vt:lpwstr>
  </property>
  <property fmtid="{D5CDD505-2E9C-101B-9397-08002B2CF9AE}" pid="4" name="_AuthorEmailDisplayName">
    <vt:lpwstr>Ferguson, Jim</vt:lpwstr>
  </property>
  <property fmtid="{D5CDD505-2E9C-101B-9397-08002B2CF9AE}" pid="5" name="_EmailSubject">
    <vt:lpwstr>Loyal Bastards</vt:lpwstr>
  </property>
  <property fmtid="{D5CDD505-2E9C-101B-9397-08002B2CF9AE}" pid="6" name="_PreviousAdHocReviewCycleID">
    <vt:r8>-306767934</vt:r8>
  </property>
</Properties>
</file>